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9E6-9495-4C6C-83E1-7959E51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868-1172-49F6-A240-5BCF2C9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ECE-8091-460C-9EEB-3A447ACF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CF6-D995-4601-9ADE-4759E7FE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BED2-7CDD-48B6-9686-3E63D71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D4AF-7532-4CCD-9273-CEA63435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9A60-BBF8-4C2A-A823-F5A7B4CF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A63-1510-4F12-B0BD-D9AD8DB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FF43-491F-40F3-B813-83138F9E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7E5-705B-4835-AD00-A253E36D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8216-04DA-4806-8801-4F57922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296-6FB8-4312-84A0-1EEF06CB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B04-D71F-4F5C-9E83-BBE1B45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D92B-A5D3-4913-8E69-CF299792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E54D-839A-46C8-BE5A-83865A5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57D1-7606-4EEF-BE2B-867FB5CF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F7FF-D527-46FA-B429-218003E6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208A-5FF2-4146-9BB1-13D3D308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C05E-B267-4132-A124-DB0D110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36A7-F37B-4987-BD4E-2F56703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DD15-E36D-497A-90B5-52D6726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2264-66DB-457B-ABA9-608F286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8E5-6FB9-4F22-8AF0-2A38691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8344-1C17-4FFE-ADC7-F415DB6C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9AEB-C91F-46EF-9218-D542B3F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E8AC-624B-4D3F-AA7C-A19B0BB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3E55-702E-4256-8FB3-6EEA7402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38C0-8A86-4A3C-BD07-48ACF4D7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30C9-7E32-4FC8-A10C-652544C4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A5649-6E88-4F9B-95CC-9AA28941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389A-287D-4150-B53D-47B097E0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5D2A-71FC-4EF8-8522-BB24618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659F-1673-41D1-86FF-CC9C3AF3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281-94B8-40CD-BDCD-64CABA2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9864-519C-4B3F-B86A-653E98BD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0280-C9DB-471C-BE2D-6DA4375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CC79-D4BA-4213-BC6E-515F76EC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346C-85BF-4D5E-BD13-85092A6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B914-0D0F-4EF8-80F1-7D51C65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44D6-45CB-41E1-A1FE-80169E7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9445-4FB3-4191-B8AA-2724519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C6279-738C-45F9-B8F3-9198E45F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DAF75-D417-469A-BF27-BBBB1911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AD9D-6DFC-4874-9BA6-F14E7AD7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5E7-FBE4-4386-A336-1F726A57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C7181-0938-470C-9A0F-53EE250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AB8B4-0594-4973-8F5C-AE95AA8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E55F-F27C-4635-ADD3-ECA8544A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9181A-72B0-40C3-B154-B905E92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99568-0FF5-4895-B629-BDC02A3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6CD4-90A7-4DFA-96E0-FD73D08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3E72-5794-49CE-9137-198B07F9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D91F-F969-4466-8B9B-60BB3560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71914-5969-49E6-B50C-304F9250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1FE8-D221-403E-853C-BC33EB02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362-23C5-4ABF-AB4A-6BE25FA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DB00-C9F6-4267-BB4D-5927B9D8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502-A093-44E9-9111-BE0C6E40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269-9487-4B85-8D1E-A1D6C3F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B92-D2D3-4FCB-9149-E26611B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17A7-BD53-48B9-AB4C-762DC3D2046D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B9B-0367-4757-96F6-78D43458115E}" type="slidenum">
              <a:rPr b="0" lang="sr-Latn-C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DDE5-9587-4187-9EA1-EB2C056A608F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89FB-BFCF-4D52-981D-6EAB26C8CDCB}" type="slidenum">
              <a:rPr b="0" lang="sr-Latn-C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A5E2-D4D3-4C4F-B682-B9DD948FA43E}" type="slidenum">
              <a:rPr b="0" lang="sr-Latn-C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ff"/>
                </a:solidFill>
                <a:latin typeface="Trebuchet MS"/>
              </a:rPr>
              <a:t>Berzansko poslovanj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-360" y="1000080"/>
            <a:ext cx="835812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Finansijsko izvještavanj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štampani medij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n-NO" sz="2000" spc="-1" strike="noStrike">
                <a:solidFill>
                  <a:srgbClr val="000000"/>
                </a:solidFill>
                <a:latin typeface="Trebuchet MS"/>
              </a:rPr>
              <a:t>- elektronski mediji (televizija, radio, internet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Znacaj izvjestavan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</a:rPr>
              <a:t>Informacij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Asimetrija informisanost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Berzansko izvještavanj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– na trzistu novca i kapitala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akcijama i obveznica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 investicionim fondovim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rebuchet MS"/>
              </a:rPr>
              <a:t>opšta tržišna kretanja (indeksi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214200" y="1143000"/>
          <a:ext cx="7929720" cy="158436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4"/>
          <p:cNvSpPr/>
          <p:nvPr/>
        </p:nvSpPr>
        <p:spPr>
          <a:xfrm>
            <a:off x="357120" y="300024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puniti izvještaj na osnovu sledećih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INS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Neto dobit iznosi 24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e su raspodijeljene – racio plaćanje dividendi iznosi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Emitovano je 10.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Akcija EPC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Poslovna dobit firme iznosi 45.000, a poreska stopa iznosi 20% (nema troškova finansir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Kompanija emituje 6000 ak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rebuchet MS"/>
              </a:rPr>
              <a:t>Dividenda je raspodijeljena u razmjeri 1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214200" y="1714680"/>
          <a:ext cx="7929720" cy="1584000"/>
        </p:xfrm>
        <a:graphic>
          <a:graphicData uri="http://schemas.openxmlformats.org/drawingml/2006/table">
            <a:tbl>
              <a:tblPr/>
              <a:tblGrid>
                <a:gridCol w="1096920"/>
                <a:gridCol w="855720"/>
                <a:gridCol w="905040"/>
                <a:gridCol w="666720"/>
                <a:gridCol w="880920"/>
                <a:gridCol w="881280"/>
                <a:gridCol w="1141200"/>
                <a:gridCol w="825480"/>
                <a:gridCol w="67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vid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/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High   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o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     37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vj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,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3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   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6    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p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PC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      22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/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5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 3/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HVALA NA PAŽNJ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06:55Z</dcterms:created>
  <dc:creator>Ana</dc:creator>
  <dc:description/>
  <dc:language>en-US</dc:language>
  <cp:lastModifiedBy>Ana</cp:lastModifiedBy>
  <dcterms:modified xsi:type="dcterms:W3CDTF">2010-03-23T11:26:33Z</dcterms:modified>
  <cp:revision>13</cp:revision>
  <dc:subject/>
  <dc:title>Finansijsko izvještavanje</dc:title>
</cp:coreProperties>
</file>